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F3B4-C265-4BDB-ACA9-2A23C8B0AB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504-9641-45EC-A2DD-56DE8791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871-F9A1-4D76-92A0-199F8205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24F-D1A7-4794-AF98-6A154DD5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0D3-A2F3-42B5-9B31-054750AA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85AF-1493-4446-B4CB-F8554ADE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EC50-4C68-4D62-B938-269A32CF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A950-9221-4212-86C2-74E53A0E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B5CA-08D5-41B2-9B2A-DF556090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8F1C-0126-480C-9157-A62D6EDC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0BCA-E5FD-4C43-8100-7CBF93CA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33FC-C42F-4A33-B524-B84AFF95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5F7-56B2-4943-92FD-86E876A8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99C5-62C3-4AF5-BFDC-E4C8E90F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8C2D-BA14-46ED-88D9-5CF337A7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CEC9-7190-49BA-BD91-CCEC744C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790D-338B-41F7-BF90-02436E44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49F4-927F-4A9D-99A7-0A5A9474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564E8-0CC7-4A28-84E5-FDA5BADA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7FF1A-83D3-41DF-B021-16F79B9F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A821D-03BE-45FD-B6FE-12964A95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3F5BE-8D40-4066-870A-2AABB02F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C254E-3A1E-453C-BFB2-93B304F5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6FD-F034-41FF-A862-750A5E43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7BA3-8B57-4402-885F-0EA66E0D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9FF4-DE74-4E9F-B156-8090E74B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2223C-958A-450D-A0C5-C2A81FF2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0791-B186-492C-B662-DE490C13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7B4ED-CF71-467A-8D52-BBFE77F8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DC0FD-EFE7-4395-916F-A43C27DB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2517-804D-4C18-A41A-B54C5727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FFB8-4207-4753-8786-0ECCDA30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10611-BD2A-472A-A8A3-C714DD41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AD0D1-62A2-4F77-8F11-926C8D9D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089-A497-4337-8CAF-A0CBD718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C1919-0285-4022-83A4-B6E06D5C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16E7A-0C23-4C3B-96C0-95FDA462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DEFE6-63A2-4A8A-BE7E-6A741E3C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C25A7-6D56-40BC-AA5B-6F421382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F7897-AB8C-404F-B814-A2F439A6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48B24-4E37-4D7D-9944-F0589172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14359-6357-456E-ADBE-48EE7B5B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5385D-B0EC-409C-A35D-573C8B9E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F6EB2-6B3E-4237-BD50-F387AC26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34FF3-2125-4C48-A1DF-69D11DFD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51B-6209-44D7-8067-1A794C8C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6E4B1-76A3-4A2F-9857-AF8D58C8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86D4A-8D5E-48A2-9265-3BE5297B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F7169-52C0-4BC1-95B8-24164B0E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4BD3A-06CB-437D-9862-473AB6C0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3AF82-B265-4E41-BBE2-ACA60711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014FC-3C4F-422F-9315-5A08C140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0C376-414E-418B-85FC-267D98CF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0C0D9-D052-461B-95A0-EAE0AABE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51350-9781-487C-83BD-2C034E05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37FB3-240B-49BE-AE06-CC1D2891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502-BB8B-4A1B-A963-DA31EF61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E8ED0-A670-405F-B859-3691BF76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F8EB7-106B-420E-8706-4B6B5CEF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ED1CC-7DD5-4DB1-977B-A9CE820A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8BAEE-4669-40F8-AE87-665740C8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5C5BD-02C0-4AEF-86CA-00B3AA48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E6413-F136-4A4A-8657-7BFF8C4C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6038C-540E-4C08-AF1B-5271F1E5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821FE-E5FF-4C0D-84BD-1A977343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17E6B-AD63-4D27-A12C-60A18C7C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2C239-6949-49EA-B306-05929966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B58-FA91-4964-AA0D-AA0701F2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F9EAE-58B1-4FCB-B148-A072207B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3BE13-8B78-4A9A-BF02-DEDB509C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3FE4C-1777-466A-9702-E5B0B3C8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E752B-FBDE-42C5-BCE3-739F3A25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099EA-3FBD-49F5-ADF4-8B44A469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58778-A873-4CB9-BC45-32D4DFDD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A6F90-086B-467F-91A1-74BEEEBF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B9A7C-6CF0-4DA6-B2E5-063D244D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913F2-9FA0-4C72-B2BC-42E5AF99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B7255-3643-4339-BC93-628838B5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F3C-7B74-499A-9087-CBA5064C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0A859-3803-4FA3-8C85-AE9DF73D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BAC32-3619-447A-9946-8F13A647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653ED-4546-4397-A9AE-D2EA5C31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E3D01-D320-46BA-912E-AD71FE1E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29EE5-A9F2-41F0-898F-092AB43C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901-8713-4480-AA59-DFF36DC1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CDBD-2675-4DA4-88E6-8852685D309F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5342-6AAD-4A6C-B4B9-F2C07FE4E0F5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C8BA-3528-4BD7-B4B9-FDDFFBBC88C0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A1B3-0B25-4F90-839E-9C06F5C92816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5ABE-E0AE-4217-98C9-D3D107312BA3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C4CB-427F-4381-B5E4-C64791B4D0C1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DAE4-C267-4A43-92AE-36B01AD328EC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5E16-5CAC-4A34-9530-27D4B59AB9AE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EB9F-A494-4B9D-8027-4CBF2A917ACB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98EB-0175-4E43-893F-D3E1FA28C138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31FC-AA41-454E-B637-936BD7E11432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B7C9-6DE6-40DE-9B2B-94028644B3D5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57FA-5AD3-4D43-9C91-08A6C11061EA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2141-1A80-4EEF-AC85-AD93225BBE1D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ndara"/>
              </a:rPr>
              <a:t>ПРОФИЛАКТИКА СЕРДЕЧНО-СОСУДИСТЫХ ЗАБОЛЕВАНИЙ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556000" y="465300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15840" y="4005360"/>
            <a:ext cx="3809880" cy="2638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ЧИНЫ РАЗВИТИЯ ИБ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789120" y="23493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Чаще всего причиной развития ИБС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з коронарных артери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, при котором происходит постепенное сужение просвета сосуда вследствие жировых (холестериновых) отложений в его стенке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тических бляшек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3635280" y="450864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Возникновению заболевания способствуют множество причин, но особое место занимают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факторы риска,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связанные с привычками и образом жизни. Если они будут вовремя предотвращены, то болезнь может и не разв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08000" y="256536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ное АД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Курен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Гиподинам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сихоэмоциональное перенапряжение (острые тяжелые или длительные стрессы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СНОВНЫЕ ФАКТОРЫ РИСКА РАЗВИТИЯ АТЕРОСКЛЕРОЗ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988640"/>
            <a:ext cx="8056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Основные цели лечения стенокардии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– устранение боли, профилактика приступов и прогрессирования заболевани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омимо лекарственных антиангиальных средств лечение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обязательно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должно включать меры по устранению негативного влияния факторов риска ИБС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Также в настоящее время активно примен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хирургические и интервенционные методы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восстановления кровоснабжения миокард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ЛЕЧЕНИЕ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179280" y="1628640"/>
          <a:ext cx="8785440" cy="5135760"/>
        </p:xfrm>
        <a:graphic>
          <a:graphicData uri="http://schemas.openxmlformats.org/drawingml/2006/table">
            <a:tbl>
              <a:tblPr/>
              <a:tblGrid>
                <a:gridCol w="360072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РЕПАР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цетилсалициловая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едупреждает образование тромбов в коронарных сосу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ат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ормализуют уровень липидов кр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22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-адреноблокаторы (при противопоказаниях или непереносимости применяю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ингиби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медляют частоту пульса, уменьшают работу сердца, снижают частоту приступов стенокар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слабляют нагрузку на 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нтагонисты кальция и 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асширяют артерии, в т. ч. коронарные, снижают повышенное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нгибиторы АП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нижают АД, замедляют развитие изменений в сосудах и сердце и тяжелых осложнений ИБ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Цитопроте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щищают клетки миокарда от недостатка кислорода (ишемии) в момент приступа, не оказывают влияния на ЧСС и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338040"/>
            <a:ext cx="86421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РЕПАРАТЫ ДЛЯ ПРЕДУПРЕЖДЕНИЯ ПРИСТУПОВ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Объект 3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673520" cy="4451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4979880" y="2565360"/>
            <a:ext cx="4032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НГИОПЛАСТИКА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Объект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4240080" cy="38163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79280" y="2809800"/>
            <a:ext cx="5113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ОРТОКОРОНАРНОЕ ШУНТИРОВАНИЕ (АКШ)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61720" y="1709640"/>
            <a:ext cx="8856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а дозированная ходьба, пульс при этом необходимо контролировать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овень допустимых нагрузок определяется границами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зоны безопасного пульс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торая индивидуальна и определяется врачом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ледует избегать изометрических усилий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АБОЧИЕ НАГРУЗ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50920" y="1699920"/>
            <a:ext cx="8642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отказаться от кур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2" name="Рисунок 3" descr=""/>
          <p:cNvPicPr/>
          <p:nvPr/>
        </p:nvPicPr>
        <p:blipFill>
          <a:blip r:embed="rId1"/>
          <a:stretch/>
        </p:blipFill>
        <p:spPr>
          <a:xfrm>
            <a:off x="2266920" y="4175280"/>
            <a:ext cx="4756320" cy="253044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871560" y="1412640"/>
            <a:ext cx="7408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табилизируется или нормализуется уровень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ежается пуль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меньшается утренний кашель, одышка, слабость и утомляем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величивается работоспособ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сстанавливается способность чувствовать запах и вку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цвет лица, состояние кож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памя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26560" y="2349360"/>
            <a:ext cx="7409160" cy="38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Ежегодный отпуск необходим для укрепления и восстановления здоровь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согласование с врачом выбора места отдых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тдыхать желательно в той климатической зоне, в которой больной проживает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ТДЫХ И ДОСУГ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Объект 3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489120" cy="3240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СНОВНЫЕ С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3510000" y="2349360"/>
            <a:ext cx="561636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ndara"/>
              </a:rPr>
              <a:t>СЕРДЦ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это конусообразный полый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мышечно-фиброз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ой системы. Располагается в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грудной клетке загрудинно. 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беспечивает ток крови по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ым  сосудам. Работа сердца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писывается механическими явлениями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(всасывание и выталкивание). Обладает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автомати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309600" y="5697360"/>
            <a:ext cx="36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Схема расположения коронарных артерий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Режим дня соблюдать, спать ложиться в одно и то же время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должительность сна 7-8 часо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ельзя заниматься физической или умственной работой непосредственно перед сном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смотр эмоциональных передач необходимо прекращать за 1,5-2 часа до сна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Желательно совершать перед сном прогулки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СО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Объект 3" descr=""/>
          <p:cNvPicPr/>
          <p:nvPr/>
        </p:nvPicPr>
        <p:blipFill>
          <a:blip r:embed="rId1"/>
          <a:stretch/>
        </p:blipFill>
        <p:spPr>
          <a:xfrm>
            <a:off x="4498920" y="2419200"/>
            <a:ext cx="4821120" cy="41767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79280" y="1844640"/>
            <a:ext cx="6480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ища должна быть разнообраз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бязателен режим п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Больным ИБС необходимо огранич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или исключить из рациона продукты, богатые холестерином и насыщенными жи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Если повышается АД, необходим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граничить употребление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соли –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не боле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5 г в сутки (1 чайная ложка без верха)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Алкогольные напитки даже в мал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дозах можно употреблять только п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огласованию с врач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360" y="1412640"/>
            <a:ext cx="79912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ограничить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убпродукты (печень, почки, мозги, икр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Яичный желток (не более 1 в недел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говядину, баранину, свинину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птицу (гусь, утка, куриц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вотные жиры в чистом вид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альмовое и кокосовое масл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ые молочные продукты (сливки, кефир, сыры и т.д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Майонез и соусы на его основ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ладости с высоким содержанием жир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Алког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71560" y="1341360"/>
            <a:ext cx="7408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ndara"/>
              </a:rPr>
              <a:t>Добавить в рацион: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Овощи, фрукты, ягоды, зеленый салат и лук, петрушку, укроп, шпинат, сельдерей, чесн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Постное мясо и птицу (желательно белое мясо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Яичный бел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Растительные мас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рскую рыбу и морепродукты (НО НЕ креветк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ягкие маргарины (не более столовой ложки в день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лочные продукты с пониженным содержанием жира (0,5%-1%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Каши из круп, отруби, хлеб из муки грубого помо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Грецкие орехи (под контролем калорийност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Бобовые, сою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Зеленый чай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24000" y="2133360"/>
            <a:ext cx="86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бщий холестерин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7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 4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5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низкой плотности (ЛПНП), повыш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0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2,6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высокой плотности (ЛПВП), сниж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4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1,0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Триглицериды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5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,7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УРОВНИ ЖИРОВ КРОВ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8920" y="206064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ля точной оценки степени избыточной массы тела использу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индекс массы тела (индекс Кетле)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ИМТ (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) = вес (кг) : рост (м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ЕС ТЕ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2268360" y="2924280"/>
            <a:ext cx="4607280" cy="43344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68360" y="3645000"/>
          <a:ext cx="8064360" cy="2595600"/>
        </p:xfrm>
        <a:graphic>
          <a:graphicData uri="http://schemas.openxmlformats.org/drawingml/2006/table">
            <a:tbl>
              <a:tblPr/>
              <a:tblGrid>
                <a:gridCol w="2521080"/>
                <a:gridCol w="2590560"/>
                <a:gridCol w="2952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Индекс Кетле (кг/м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Риск ССЗ и диаб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lt;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ефицит массы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18,5 – 2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уме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нормаль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,0 – 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збыточ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,0 – 3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5,0 – 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чень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резвычайно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3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иболее неблагоприятным для больных ИБС и артериальной гипертонией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верхний (висцеральный) тип ожирени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гда жир накапливается в области груди и живота (мужской тип ожирения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Риск такого ожирения определяется по измерению окружности тали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ИП ОЖИР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0920" y="4869000"/>
          <a:ext cx="8642160" cy="1523880"/>
        </p:xfrm>
        <a:graphic>
          <a:graphicData uri="http://schemas.openxmlformats.org/drawingml/2006/table">
            <a:tbl>
              <a:tblPr/>
              <a:tblGrid>
                <a:gridCol w="4398840"/>
                <a:gridCol w="42433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мужч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94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102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женщ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80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– 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8 – 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3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умеренной физической активности = 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7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2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АЛОРИЙ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1835280" y="3573360"/>
            <a:ext cx="5473440" cy="43200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1835280" y="5373720"/>
            <a:ext cx="5473440" cy="50328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Объект 3" descr=""/>
          <p:cNvPicPr/>
          <p:nvPr/>
        </p:nvPicPr>
        <p:blipFill>
          <a:blip r:embed="rId1"/>
          <a:stretch/>
        </p:blipFill>
        <p:spPr>
          <a:xfrm>
            <a:off x="5870520" y="285264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СИХОЭМОЦИОНАЛЬНОЕ НАПРЯЖЕНИ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108000" y="2060640"/>
            <a:ext cx="590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собенно опасны для больных тяжелые и длительные стрессы (дистре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либо устранять факторы-стрессоры, либо учиться изменять к ним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ороший эффект оказывают занятие любимым делом (хобб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2276640"/>
            <a:ext cx="8642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Заболевание сердца (болезни сердца) 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лассификация по МКБ-10 – разделы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I00 – I52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АБОЛЕВАНИЯ СЕРДЦ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00000" y="2491920"/>
            <a:ext cx="7407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Нарушения ритма и проводимост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оспалительные заболевания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лапанные порок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ртериальные гипертензи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Ишемические пораж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оражение сосудов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атологические измен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КЛАССИФИКАЦИЯ ВИДОВ ЗАБОЛЕВАНИЙ СЕРДЦ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-22320" y="1773360"/>
            <a:ext cx="56023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аболевания сердца различны, наиболее распространенное и серьёзное из них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ишемическая болезнь сердца (ИБС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 основе ИБС лежит сужение или закупорка коронарных артерий, питающих сердц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аще всего ИБС проявляется болевым приступом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стенокардие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 затянувшемся приступе стенокардии или чрезмерной нагрузк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может развиться инфаркт миокард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ШЕМИЧЕСКАЯ БОЛЕЗНЬ СЕРДЦА (ИБС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Рисунок 3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894120" cy="35276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5508720" y="593244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Окклюзия (закупорка) коронарной артерии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50560" y="234900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Физические нагрузки (быстрая ходьба, подъем по лестнице, перенос тяжестей и др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моциональный стрес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соблюдение рекомендаций врач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Резкая смена метеорологических условий (холод, ветер, влажность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ие артериального давлен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резмерное потребление пищ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ем большой дозы алкогол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ексуальная актив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ФАКТОРЫ, ПРОВОЦИРУЮЩИЕ ПРИСТУП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900000" y="2421000"/>
            <a:ext cx="7407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одолжительность приступа 3-5 мин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ЗНАКИ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34920" y="5661000"/>
            <a:ext cx="9109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обходимо запоминать характер, длительность болей, реакцию на прием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итроглицерина во время приступа. Это необходимо для того, чтобы отличить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стабильное течение болезни с постоянной частотой приступов от перехода его в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стабильное состояние и особенно от инфаркта миокар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0" y="5819760"/>
            <a:ext cx="10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NB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7928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екратить физическую нагрузку, при возможности сесть, успокоитьс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нять одну таблетку нитроглицерина под язык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 подъеме АД разжевать одну таблетку нифедепина или катоприл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ЕРВАЯ ПОМОЩЬ ПРИ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50560" y="1773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Опасные признак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становятся интенсивнее, продолжаются 20-30 мин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лнообразно повторяются в состоянии поко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зникает резкая слабость и чувство страх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чащается пульс и резко колеблется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ГРЕССИРУЮЩАЯ (НЕСТАБИЛЬНАЯ) СТЕНОКАРД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19:08Z</dcterms:created>
  <dc:creator>MashutiK</dc:creator>
  <dc:description/>
  <dc:language>en-US</dc:language>
  <cp:lastModifiedBy>LEGION</cp:lastModifiedBy>
  <dcterms:modified xsi:type="dcterms:W3CDTF">2015-11-27T12:50:49Z</dcterms:modified>
  <cp:revision>54</cp:revision>
  <dc:subject/>
  <dc:title>ПРОФИЛАКТИКА СЕРДЕЧНО-СОСУДИСТЫХ ЗАБОЛЕВАНИЙ</dc:title>
</cp:coreProperties>
</file>